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12E0-40C0-4947-ABD9-869F467E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D43C-24A7-4E3A-8129-87D6254B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969E-B118-441E-B268-FC71F765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8CA9-A744-4C5D-A4D6-F73BDE93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5B5E-5B60-4F7A-AB09-0F923E55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6D36-D317-42CF-B7F5-23971327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280C-BAFF-4C5A-B51F-787B51B3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8C72-3184-42CA-9DBC-BF4A7823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429-E8CB-4591-B9B7-DF6A6A12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6332-CE46-4EDA-B17C-DC5ACA1A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E33E-D675-4122-95DD-390EBB73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1383-ECC4-493F-A000-07CAE8C6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DBC6-D037-4B28-96A5-F22084AEC4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7080" y="1828800"/>
            <a:ext cx="6543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Large-sampl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onfidence Interv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for the m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6873"/>
          <a:stretch/>
        </p:blipFill>
        <p:spPr>
          <a:xfrm>
            <a:off x="609480" y="45720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6873"/>
          <a:stretch/>
        </p:blipFill>
        <p:spPr>
          <a:xfrm>
            <a:off x="609480" y="457200"/>
            <a:ext cx="7772400" cy="3886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70822" r="0" b="9939"/>
          <a:stretch/>
        </p:blipFill>
        <p:spPr>
          <a:xfrm>
            <a:off x="609480" y="4343400"/>
            <a:ext cx="7772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9638"/>
          <a:stretch/>
        </p:blipFill>
        <p:spPr>
          <a:xfrm>
            <a:off x="685800" y="53352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0389"/>
          <a:stretch/>
        </p:blipFill>
        <p:spPr>
          <a:xfrm>
            <a:off x="609480" y="609480"/>
            <a:ext cx="7772400" cy="5791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28840" y="4381560"/>
            <a:ext cx="22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 a comp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do this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20491"/>
          <a:stretch/>
        </p:blipFill>
        <p:spPr>
          <a:xfrm>
            <a:off x="838080" y="129528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3760" y="533520"/>
            <a:ext cx="75067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bstituting the cell frequencies from each stratum in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variance formula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25610"/>
          <a:stretch/>
        </p:blipFill>
        <p:spPr>
          <a:xfrm>
            <a:off x="685800" y="380880"/>
            <a:ext cx="79246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323"/>
          <a:stretch/>
        </p:blipFill>
        <p:spPr>
          <a:xfrm>
            <a:off x="457200" y="304920"/>
            <a:ext cx="838188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12054"/>
          <a:stretch/>
        </p:blipFill>
        <p:spPr>
          <a:xfrm>
            <a:off x="685800" y="533520"/>
            <a:ext cx="78487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21:14:02Z</dcterms:modified>
  <cp:revision>217</cp:revision>
  <dc:subject/>
  <dc:title>Slide 1</dc:title>
</cp:coreProperties>
</file>